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286-F412-432E-A7F4-DD34AD78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1BC-0499-4C25-8D60-6F5B940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A46-A5AB-4C9D-A50B-7B06E11E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3D9-2248-4E56-8427-6AD2EFA5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24A-4615-47E5-8012-219F58A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018-918C-47B0-907E-313BC19E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3A5-DAF6-41B7-8144-501124E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AFF-558F-4606-ACF7-97CF1B4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ABE-9E46-4999-969B-161856D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E0D-5344-4026-87D7-3DF5EEE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620-0AD8-4B6C-931E-C3F7888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0AC-F6D2-4A39-A146-8B6C69E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93A-DCB8-4A79-954B-81584F9D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image" Target="../media/image1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hyperlink" Target="http://www.the-office.com/bedtime-story/itssocold.htm" TargetMode="External"/><Relationship Id="rId3" Type="http://schemas.openxmlformats.org/officeDocument/2006/relationships/hyperlink" Target="http://www.microsoft.com/" TargetMode="External"/><Relationship Id="rId4" Type="http://schemas.openxmlformats.org/officeDocument/2006/relationships/hyperlink" Target="http://www.microsoft.com/" TargetMode="External"/><Relationship Id="rId5" Type="http://schemas.openxmlformats.org/officeDocument/2006/relationships/hyperlink" Target="http://www.freeplaymusic.com/" TargetMode="External"/><Relationship Id="rId6" Type="http://schemas.openxmlformats.org/officeDocument/2006/relationships/hyperlink" Target="http://www.microsof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02920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Bu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5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236232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o's Under the Bed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9920" y="2876400"/>
            <a:ext cx="2449440" cy="398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90720" y="2133720"/>
            <a:ext cx="2298600" cy="417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43200" y="2666880"/>
            <a:ext cx="1447920" cy="2362320"/>
          </a:xfrm>
          <a:prstGeom prst="wedgeRoundRectCallout">
            <a:avLst>
              <a:gd name="adj1" fmla="val -78291"/>
              <a:gd name="adj2" fmla="val 12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m glad we are friends. I thought you were going to be mean but I was wro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666880"/>
            <a:ext cx="838440" cy="1524240"/>
          </a:xfrm>
          <a:prstGeom prst="wedgeRoundRectCallout">
            <a:avLst>
              <a:gd name="adj1" fmla="val -116097"/>
              <a:gd name="adj2" fmla="val 471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you still afraid of me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257800"/>
            <a:ext cx="1066680" cy="1295280"/>
          </a:xfrm>
          <a:prstGeom prst="wedgeRoundRectCallout">
            <a:avLst>
              <a:gd name="adj1" fmla="val -54763"/>
              <a:gd name="adj2" fmla="val -136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n’t know, I still can’t believe 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01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Now they are friends, and the monster lives in bob’s clos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2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112392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7238880" cy="3232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121896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477120" y="601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Don’t judge a book by it’s  c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eature from the black lag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fice.com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s soc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3/12/12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he-office.com/bedtime-story/itssocold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oft, scared boy, 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oft, rooms, 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icrosoft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ic: free play music, Amends, 4/5/2012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tchen,park,living room, bed ro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0"/>
            <a:ext cx="6172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re once was a boy that liked to be exciting and went on adventures. He always liked to be in his room. His name was Billy. Billy believed in monsters and supernatural fig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20040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ne day Billy was in his room and he had just finished playing his favorite game ,which was being a super hero. He took off his outfit and was looking for something to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28744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6521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Now that he was dressed normally he was going to get some toys from under his bed, but then he heard a clatter. He didn’t know what to do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5181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monster came from out of the bed and started to dance around and grow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44760"/>
            <a:ext cx="9144000" cy="531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2216160" cy="2838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3657600"/>
            <a:ext cx="18288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at?!?!?!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19320" y="4267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95280" y="4343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505320"/>
            <a:ext cx="129528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! I live under your, I mean, my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6248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81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5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monster chased the boy into the kitchen. he was running around trying not to get caught!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60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44600"/>
            <a:ext cx="9144000" cy="461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6200000">
            <a:off x="5486400" y="4934160"/>
            <a:ext cx="137160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632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y ran for a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"/>
              </a:rPr>
              <a:t>long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 ti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05720" y="4898880"/>
            <a:ext cx="1981080" cy="195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2216160" cy="2000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4600" y="4572000"/>
            <a:ext cx="1447920" cy="609480"/>
          </a:xfrm>
          <a:prstGeom prst="wedgeRoundRectCallout">
            <a:avLst>
              <a:gd name="adj1" fmla="val -75768"/>
              <a:gd name="adj2" fmla="val 41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 get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6521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6172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comic"/>
              </a:rPr>
              <a:t>After more running they ran into the living room and the monster calmed down and explained him self .they   </a:t>
            </a:r>
            <a:br>
              <a:rPr sz="4000"/>
            </a:br>
            <a:r>
              <a:rPr b="0" lang="en-US" sz="4000" spc="-1" strike="noStrike">
                <a:solidFill>
                  <a:srgbClr val="ff9999"/>
                </a:solidFill>
                <a:latin typeface="comic"/>
              </a:rPr>
              <a:t>became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1371600" cy="222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1143000" cy="1809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2819520"/>
            <a:ext cx="1524240" cy="914400"/>
          </a:xfrm>
          <a:prstGeom prst="wedgeEllipseCallout">
            <a:avLst>
              <a:gd name="adj1" fmla="val -67606"/>
              <a:gd name="adj2" fmla="val 4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had nowhere to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4419720"/>
            <a:ext cx="2361960" cy="1218960"/>
          </a:xfrm>
          <a:prstGeom prst="wedgeEllipseCallout">
            <a:avLst>
              <a:gd name="adj1" fmla="val -61490"/>
              <a:gd name="adj2" fmla="val -14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stay in my clo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571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y wondered into the forest while talk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14300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4724280"/>
            <a:ext cx="1752480" cy="1371600"/>
          </a:xfrm>
          <a:prstGeom prst="wedgeRoundRectCallout">
            <a:avLst>
              <a:gd name="adj1" fmla="val -59782"/>
              <a:gd name="adj2" fmla="val 3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always float into the room, that’s cree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616280"/>
            <a:ext cx="1828800" cy="165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10080" y="4419720"/>
            <a:ext cx="1981440" cy="533160"/>
          </a:xfrm>
          <a:prstGeom prst="wedgeRoundRectCallout">
            <a:avLst>
              <a:gd name="adj1" fmla="val -62578"/>
              <a:gd name="adj2" fmla="val 714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my nature, that’s what I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32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38:18Z</dcterms:created>
  <dc:creator>install</dc:creator>
  <dc:description/>
  <dc:language>en-US</dc:language>
  <cp:lastModifiedBy>install</cp:lastModifiedBy>
  <dcterms:modified xsi:type="dcterms:W3CDTF">2012-04-13T18:09:48Z</dcterms:modified>
  <cp:revision>12</cp:revision>
  <dc:subject/>
  <dc:title>Slide 1</dc:title>
</cp:coreProperties>
</file>